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66E-37C3-48F5-865B-C02011C3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A2B-AE57-430A-9A70-538A06CD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29D-62D7-49F6-B305-6A6947B4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6A7-249F-4B78-93B0-94108121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CFB-B759-423B-9711-C48BDEE4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EBF1-6157-40BA-81C3-A7DF468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3B0C-6150-433C-8C2C-4B877676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FA35-32A2-4A87-BE10-1E69E7F5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46A-0EC5-44C2-A10C-C47AA778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53D1-7D51-4D26-8A7D-49D97AB6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1E18-890F-43E9-9F83-6162F33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842-BA5A-4F20-9F7D-5B3B7039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AC35-34AC-4356-8CB8-A7F2552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2BE-EB60-4785-96DF-40CE320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55F-715B-4298-BBC9-260E30D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7751-C528-4FE9-90B6-5D6054E2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11F-544E-4754-9A2E-A116636B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263-887F-4372-825F-15BADDA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1DD-57EC-496A-9B97-1612DC2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E87-FEC5-4903-8823-BEA16BA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134-3D5F-452E-8EF1-884FD88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8C5-E6BE-4DE3-9804-92372BF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A51-FF14-410B-A0C9-2E4EDED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823-0DC6-4F41-B7A9-31C0142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6017-030B-4625-9749-214902FB138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E0F0-4300-42D8-99B5-D668420813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diserio@fgvsp.br" TargetMode="External"/><Relationship Id="rId3" Type="http://schemas.openxmlformats.org/officeDocument/2006/relationships/hyperlink" Target="mailto:wdamiani@fgvsp.br" TargetMode="External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USINESS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3443040"/>
            <a:ext cx="74786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montar um Business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92200" cy="103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24360" y="506484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rofs. Luiz C. Di Se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2"/>
              </a:rPr>
              <a:t>ldiserio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Wagner B. Damia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3"/>
              </a:rPr>
              <a:t>wdamiani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C-8067-R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ÁRIO EXECU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ósito do Pl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tos e Serviços Ofertado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álise de Marketing – Características e Esco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de Mercado e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dos Financei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 Invest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Empresa – Passado e Pres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bilidades distintas, Singularidade e Proteçã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ÁLISE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Indústria, escopo e tendênci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rfil do Princip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cado-alvo – Penetração de Mercad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écnicas predominantes de Vend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as, obstáculos e Oportunidad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quisa de Mercado – Específica e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etição – Forças e Franquez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TO E/OU SERVIÇ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nefícios – Satisfação das Necessidades do Cli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ágio Atual – Idéia, Protótipo, Pequenas Vendas, Etc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clo de V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riedade Intelectual – Patentes, Comércio Secreto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RATÉGIA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para o Cres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ribuiçã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aganda – Institucional e de Produ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451640" y="18900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 – Alocação de Recursos, Principais Forç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ção e/ou Entrega de Serviço – Capacidade Técnica, Custos, Logística, Controle de Qualidade, Economias de Escal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cessidade de Fornecedor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utura Leg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keholder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pa Organizacion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ursos Human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45164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NC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pital Necessári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o do Capit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s Investi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sado e Presente Financeiro – Fluxo de Caixa, Lucro, Prejuízo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ções Futuras – Fluxo de Caixa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licação das Projeções Futura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38036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Ê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umo dos Gestores-Chav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451640" y="33336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33336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32:30Z</dcterms:created>
  <dc:creator>Re</dc:creator>
  <dc:description/>
  <dc:language>en-US</dc:language>
  <cp:lastModifiedBy>ldiserio</cp:lastModifiedBy>
  <dcterms:modified xsi:type="dcterms:W3CDTF">2007-03-06T21:02:33Z</dcterms:modified>
  <cp:revision>14</cp:revision>
  <dc:subject/>
  <dc:title>BUSINESS PLAN</dc:title>
</cp:coreProperties>
</file>